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53E-2E1F-4DC4-A28F-4F0B7AA4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F20-75E9-4E34-9D4C-156A4DAC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0BE-FC77-4B5A-9B9D-CD56E793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E48-2DEE-47B1-A614-1097A3FB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0D04-1B43-4F9A-8001-A7629F88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4E3C-7E03-4E07-BDA1-119A8FE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142E-D42C-43D0-955E-3A98734A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444-8F9A-49F9-B9B3-22A2DA6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484C-393D-48F4-BB09-DC26FA4D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EC33-335C-4F48-8FBF-7DBC56C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3F17-CD98-45C1-A5D7-CA190CD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B7C-AB7D-4453-9E4D-874FD3EF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45A-C98B-4C2E-BD79-8148B358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FA51-9AC5-4514-8C24-D283540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747-8169-4662-8DBD-4142E878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714B-D594-462D-B35D-CC212DAE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0BA1-8179-487E-9E2E-CEB80C75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CC5-08E5-4253-82AC-BC4C020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C65-FF1F-4E63-8C46-E07C740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A74-7370-482E-B10B-6B82D005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DC2-AAC4-49BB-AF28-B913973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B7A-5070-401F-B126-441FFF2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E9A7-4352-4D3C-B4F6-743359ED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868-9B98-40E3-A374-8AB143A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4A8-071F-4A1A-A78B-C1FA926E76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C969-535F-4A8A-B385-C34FE237A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b7"/>
                </a:solidFill>
                <a:uFillTx/>
                <a:latin typeface="Arial Black"/>
              </a:rPr>
              <a:t>The Heimlich Maneuver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Victor Castillo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abdominal thrusts until the object is coughed 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Always remember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ing the expulsion of the object, keep the victim still and get medical hel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ications can arise from the incident or from the measures that were tak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Important Notice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censed physician should be consulted for diagnosis and treatment of all medical condi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Introductio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’s never a warning before a person gets an object caught in their throat and starts cho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tunately, there are effective techniques to deal with this emerg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Lack of Oxyg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oxygen the brain can begin to die within 4 to 6 minutes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learning the Heimlich Maneuver-a simple life-saving technique-you may literally save the life of a choking vict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Heimlich Maneuver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2670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lifts the diaphragm and forces enough air from the lungs to remove the obstru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67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When Do I Use The Heimlich?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grabbing the throat with the hand (the universal sign for chok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otice they are ga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ear a weak ineffective cough, noisy breathing, or high-pitched soun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son is starting to look blu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1219320"/>
            <a:ext cx="4419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How To Do The Heimlich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behind the choking person and wrap your arm around his or her wais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thumb side of the fist against middle of person’s abdomen just above the navel and well below the rib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tep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 your fist into the person’s abdomen with quick, upward thrust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50:54Z</dcterms:created>
  <dc:creator>762923</dc:creator>
  <dc:description/>
  <dc:language>en-US</dc:language>
  <cp:lastModifiedBy>762923</cp:lastModifiedBy>
  <dcterms:modified xsi:type="dcterms:W3CDTF">2008-10-31T15:36:05Z</dcterms:modified>
  <cp:revision>4</cp:revision>
  <dc:subject/>
  <dc:title>The Heimlich Maneuver </dc:title>
</cp:coreProperties>
</file>